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png" ContentType="image/pn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E7E3-F83E-41EB-9838-5814C7C17961}" type="slidenum"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F1AA-2FF3-48A6-8BA7-5A3CE28AD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202C-578B-4D6F-9A28-F2A0E48D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E835-A7C2-4218-BFF2-96A02663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B3DD-7553-4EEB-8990-783646DD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A60B-77A2-4CB4-87EC-E8132DC2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B226-28B6-4736-91E4-601D7973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6E90-AB4E-40B5-BB11-2B86982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28A4-E321-4A31-9A35-8165945D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7773-37F2-483E-A1C8-3F3DD01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71AC-736B-4B5C-BC4C-2322636F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77EF-4BAD-4D55-8B86-E025E044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D177-7BD5-42C2-A56D-F8E34770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1AB0-B140-4042-8FD7-8306274D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2794-7B31-43F3-A06D-715594D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7A42-42D3-4544-9E14-9992051F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8F98-B18E-49F7-A228-FB0FEC4D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1B5-7F5C-42BF-AA51-36AE561E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BBC7-5228-47ED-AC2F-EA2EE66C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11DA-6DC8-4182-B0AE-F8834919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65A0-B05B-4A90-B031-0CF02D72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A794-D93F-4D06-B1DE-9A033167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846B-9E9A-4911-98BE-8792D9D7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511D-AB4B-40B4-A5B4-3296A91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C952-5590-4683-88CD-B190C7B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6849-170A-41A6-93C7-95E1A58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736B-E865-4061-BF07-A13BE5E6C0C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08F7-5D8B-492B-B7C1-69B4855C232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51200" y="531720"/>
            <a:ext cx="8208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С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93760" y="369720"/>
            <a:ext cx="1071360" cy="1722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209320" y="2666880"/>
            <a:ext cx="63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 II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49400" y="-1608120"/>
            <a:ext cx="4914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1760" y="1666800"/>
            <a:ext cx="10937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-ћелије Лангерхансових острвац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нкреа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921.год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Фредерик Бантинг и Чарлс Бес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рви су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золовали  инсул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953. го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Фредерик  Санге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тврдио  врсту и редослед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у моле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улу инсу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умани инсулин садржи 51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ва полипептидна ланц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А ланац (21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Б ланац (30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руктура инсулин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4" descr="D:\OSS NOVI PROGRAM\SLIKE\6. struktura insulina.jpg"/>
          <p:cNvPicPr/>
          <p:nvPr/>
        </p:nvPicPr>
        <p:blipFill>
          <a:blip r:embed="rId1"/>
          <a:stretch/>
        </p:blipFill>
        <p:spPr>
          <a:xfrm>
            <a:off x="790560" y="1778040"/>
            <a:ext cx="8578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88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иосинтез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Content Placeholder 3" descr="insulin-maturation_01_w500[1]"/>
          <p:cNvPicPr/>
          <p:nvPr/>
        </p:nvPicPr>
        <p:blipFill>
          <a:blip r:embed="rId1"/>
          <a:stretch/>
        </p:blipFill>
        <p:spPr>
          <a:xfrm>
            <a:off x="2293920" y="1309680"/>
            <a:ext cx="5429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4680" y="1166760"/>
            <a:ext cx="108666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мер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(састављен о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ва мономер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ваки мономер :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– и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– субјединиц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љашња страна мембр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езивање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теже се кроз мембран у унутрашњост ће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свом интрацелуларн. делу садржи доме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има активност тирозин кин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Slide2"/>
          <p:cNvPicPr/>
          <p:nvPr/>
        </p:nvPicPr>
        <p:blipFill>
          <a:blip r:embed="rId1"/>
          <a:stretch/>
        </p:blipFill>
        <p:spPr>
          <a:xfrm>
            <a:off x="293760" y="1238400"/>
            <a:ext cx="8508960" cy="6381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380520" y="237960"/>
            <a:ext cx="52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2-12"/>
          <p:cNvPicPr/>
          <p:nvPr/>
        </p:nvPicPr>
        <p:blipFill>
          <a:blip r:embed="rId1"/>
          <a:stretch/>
        </p:blipFill>
        <p:spPr>
          <a:xfrm>
            <a:off x="4614840" y="3979800"/>
            <a:ext cx="5545080" cy="3470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67200" y="237960"/>
            <a:ext cx="5850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Механизам дејств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54160" y="592200"/>
            <a:ext cx="1015992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Везивањем инсулина за </a:t>
            </a:r>
            <a:r>
              <a:rPr b="0" i="1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тирозин киназне рецептор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→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аутофосфорилације-активације рецептор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н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К каскадом сигналне трансдукције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орилише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нтрацелуларне протеине (</a:t>
            </a:r>
            <a:r>
              <a:rPr b="0" i="1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АТА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ра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енз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гликолизе, гликогенезе, липогене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- т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ранспорт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г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лукозе из крви у јетру, мишиће и масно ткив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38040" y="3809880"/>
            <a:ext cx="2617920" cy="3487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2540160" y="4184640"/>
            <a:ext cx="1608120" cy="83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mesta vezivanja insulin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24040" y="5925960"/>
            <a:ext cx="1609920" cy="131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Unutrašnji delovi receptora- </a:t>
            </a:r>
            <a:r>
              <a:rPr b="1" lang="sr-Latn-CS" sz="1600" spc="-1" strike="noStrike">
                <a:solidFill>
                  <a:srgbClr val="000000"/>
                </a:solidFill>
                <a:latin typeface="Garamond"/>
              </a:rPr>
              <a:t>enzim tirozin kin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Најважнија дејств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лакшан транспорт глукозе кроз ћел. мембр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ик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интезе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ип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интезе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хибиц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ет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Метаболички ефекти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4" descr="D:\OSS NOVI PROGRAM\SLIKE\2. efekti insulina.jpg"/>
          <p:cNvPicPr/>
          <p:nvPr/>
        </p:nvPicPr>
        <p:blipFill>
          <a:blip r:embed="rId1"/>
          <a:stretch/>
        </p:blipFill>
        <p:spPr>
          <a:xfrm>
            <a:off x="579600" y="1809720"/>
            <a:ext cx="89280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37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секреције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1760" y="20955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важнији фактор који контролише лучење инсулина је сама концентрација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ентрација глукозе стимулише луч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а глукозе инхибира  секреци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вог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668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1760" y="180972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ћелије Лангерхансових острваца 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тварује снажан ефекат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.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 гликогенолизе и глуконеогене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израженији ефекат 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ње гликогенолиз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2120" y="1809720"/>
            <a:ext cx="104536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ормонска регулација 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симптоми, класификаци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метаболичке последице недостатк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клиничко лабораторијски налази у  diabet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ellitu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  <a:ea typeface="Arial"/>
              </a:rPr>
              <a:t>Орални глукоза толеранс тест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(ОГТТ),  HbA1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Хипогликем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узроци, симптом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дрена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7960" y="1452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сржи надбубрег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дериват тирозин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чи се у условима интензивног стрес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јство остварује прек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денилат-циклазе и cAMP-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езивањем за своје рецептор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ва гликогенолизу у јетри и мишић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стиче глуконеогенезу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пешује липоли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ује лучење инсули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37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1680" y="1809720"/>
            <a:ext cx="9858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коре надбубрежне жлезд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ипада стероидним хормоним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зивањем кортизола за цитоплазматски рецептор долази до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ња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т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,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нтагонисти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енствен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због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брзавања процеса глуконеогенезе у јетр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- Хормон рас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934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 хормон предњег режња хипоф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оводи до ↑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глукозе у крви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след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ог коришћења глукозе у периферн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не липоли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ог коришћењ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ао извор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ације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9360" indent="-369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1760" y="188136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нички синдром у чијој основи постој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ремећај метаболизма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УХ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, масти и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протеина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зрок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псолут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ли релатив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ефицит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истенц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ериферних ткива н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се манифесту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ронично повећаном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хипергликемиј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сновни знак ове боле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2" name="Content Placeholder 3" descr="scooping[1]"/>
          <p:cNvPicPr/>
          <p:nvPr/>
        </p:nvPicPr>
        <p:blipFill>
          <a:blip r:embed="rId1"/>
          <a:stretch/>
        </p:blipFill>
        <p:spPr>
          <a:xfrm>
            <a:off x="793800" y="2666880"/>
            <a:ext cx="3786120" cy="2828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insulin_resistance[1]"/>
          <p:cNvPicPr/>
          <p:nvPr/>
        </p:nvPicPr>
        <p:blipFill>
          <a:blip r:embed="rId2"/>
          <a:stretch/>
        </p:blipFill>
        <p:spPr>
          <a:xfrm>
            <a:off x="4865760" y="259560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(WHO)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нише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ао обољење на основу лабораторијских нала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 већи од 7,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а глукоз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ћа од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11,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ва сата након узимања оброка богатог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кон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ралног 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960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00" y="10954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и знаци који указују на почетак шећерне болест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у теж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ишићна слаб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же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већана екскреција мокраћ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нализом биохемијских парамет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концентрације у крви и ↑ екскреције ур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осмоларност, жеђ и ↑унос течности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кскреције урина, дехидрат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убитак електроли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ификац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M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других поремећаја толеранције глукоз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е кла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 (инсулин-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I (инсулин-не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ски D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руги типови DM повезани са не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њима и синдром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толеранције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1760" y="20955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 недовољног лучењ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5-10% свих пацијен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лелих од дијабет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основи деструкција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ћел. Лангерхансов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трваца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3" descr="resource[1]"/>
          <p:cNvPicPr/>
          <p:nvPr/>
        </p:nvPicPr>
        <p:blipFill>
          <a:blip r:embed="rId1"/>
          <a:stretch/>
        </p:blipFill>
        <p:spPr>
          <a:xfrm>
            <a:off x="5365800" y="237960"/>
            <a:ext cx="36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00" y="23814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не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лативни недостатак активности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сно резистенција на 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80-90% дијабетич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оралним хипогликемицима/и/и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3" descr="eating-insulin-pumps[1]"/>
          <p:cNvPicPr/>
          <p:nvPr/>
        </p:nvPicPr>
        <p:blipFill>
          <a:blip r:embed="rId1"/>
          <a:stretch/>
        </p:blipFill>
        <p:spPr>
          <a:xfrm>
            <a:off x="5437080" y="309600"/>
            <a:ext cx="3714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960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6320" y="1595520"/>
            <a:ext cx="9358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авни извор ЕНЕРГИЈЕ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(E)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у организм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а се ослобађа оксидацијом ових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до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исте се за синтезу биомолекула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су масне кисел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авни су део биолошки значај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(нукл. кисел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carbohydratesExamples"/>
          <p:cNvPicPr/>
          <p:nvPr/>
        </p:nvPicPr>
        <p:blipFill>
          <a:blip r:embed="rId1"/>
          <a:stretch/>
        </p:blipFill>
        <p:spPr>
          <a:xfrm>
            <a:off x="6794640" y="166680"/>
            <a:ext cx="30891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8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Фактори ризика за настанак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-а типа II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ојаз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а породична  анам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изичка неактив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естациони дијабет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ртеријска хипертенз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липид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ијабетес, оштећена толеран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; HbA1c ≥ 5.7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зитивна анамнез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КВ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3760" y="309600"/>
            <a:ext cx="102153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дијагностички критеријуми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за diabetes mellitu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9340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венској плазми наташте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≥ 7.0 mmol/L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венској плазми 2 сата након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ОГТТ-а ≥ 11.1 mmol/L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bA1c ≥ 6.5%*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лучајан  налаз глукозе у плазми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≥11.1 mmol/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које имају симптоме шећерне болести или код особа са хипергликемијском криз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ем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је најчешће одређивани аналит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ва се у уском опсегу од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3.6- 6.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ује се  лабораторијским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етодам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В фотометријском методом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хексокиназ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пектрофотометријском методом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ксидаз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дређивање концентрације глукозе у крви</a:t>
            </a:r>
            <a:br>
              <a:rPr sz="3200"/>
            </a:b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хексокиназном метод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936720" y="2523960"/>
            <a:ext cx="8215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07960" y="309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7000"/>
          </a:bodyPr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ко 7.0 mmol/L након периода ноћн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довања,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већа од 11.1 mmol/L 2 сата  након об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2 сата  након ОГТТ-а очекивани с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лази у шећерној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условима стреса и боле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огу се измерити више концентр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, као последица дел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трарегулаторних хормона инсул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3040" indent="-293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79600" y="1666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у у еритроцит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валентним  везивање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ормирање гликохемоглоб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еензимски процес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чији је интензите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порционалан конц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а компонента гликолизираног хемоглобина који се ствара ј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HbA1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(нормално око 5%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циркулациј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36680" y="166680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икохемоглобина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bA1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гов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Latn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средњем просеку конц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глукозе 2-3 месеца </a:t>
            </a: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пр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мер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охемоглобин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HbA1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араметар који одражава контролу дијабетеса 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ужем временском период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не зависи од краткотрајних промена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уго стабил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узорку пуне крви, независности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доба дана и уношења об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89120" y="595440"/>
            <a:ext cx="42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 </a:t>
            </a:r>
            <a:br>
              <a:rPr sz="49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зурија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(глукоза у урину)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340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се не налази у узорку урина здраве особ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 се може рећи д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ије нормални састојак ур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Бубрежни праг за глукоз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носи 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ља мак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у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која није праћена појавом глукозе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1666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зуриј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3400" y="13809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укозе у крви већа од 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доводи д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реоптерећења бубрега и појаве гликозур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оказивање глукозе у урину врш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валитативно помоћу урин тест тра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руги узроци гликозурије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рудноће, болести бубрега, урођених греша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етаболизма, хипертирео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6680" y="7380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Кетонска тела у крви и урину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(кетонемија и кетонурија)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6320" y="2166840"/>
            <a:ext cx="9723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цетоацетат, β-хидроксибутират и ацет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у се из acetil-CoA у 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адовање и недостатак инсулина  у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ултир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траћелијским дефицитом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усмеравањем метаболизма на убрз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атаболизам ма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уко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668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ступљениј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моносахарид у приро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и извор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људском организ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емијском саставу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лдохекс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тички  акти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ма четири хирална угљеникова ато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креће раван поларизоване светлости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с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зната и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ао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декстр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лази у састав дисахарида и полисахари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етонска тела у крви и урин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3760" y="1738440"/>
            <a:ext cx="9866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изиолошка кет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ада кетонска тела у крви достигну конц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  2m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авља с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у гладовању, екстремном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ежба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одмаклој трудноћ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јабетичка кето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же настат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које имају инсул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зависни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естови оптерећења дају слику 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атаболизму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ости организма да контролише кон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естова оптерећења после конзумир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ати се промена концентрације глукозе у крви у одређеним временским интервал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слови за извођење Глукоза толеранс теста (ОГТТ-а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 -16 сати гладов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цијент бар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дана на исхран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50г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УХ днев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ацијент не сме да се пре извођења теста излаж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интензивном вежбањ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у току извођења теста пације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мора да мир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е сме да једе и да пу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ест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се не извод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пацијентима који су у ин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кцији или опоравку од трауме или теже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кон уношења глукозе узорковање крви мора бити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тачно 2 сата од давања глуко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6320" indent="-346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0840" y="17780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рални глукоза-толеранс тест (ОГТ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-16 сати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зима се узорак крви за одређивање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таш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се 75г глукозе у 250-30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 се узима сваких 30 мин у току 2 сата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4" name="Picture 3" descr="D:\OSS NOVI PROGRAM\SLIKE\4. OGTT (3).jpg"/>
          <p:cNvPicPr/>
          <p:nvPr/>
        </p:nvPicPr>
        <p:blipFill>
          <a:blip r:embed="rId1"/>
          <a:srcRect l="25190" t="12868" r="24998" b="11892"/>
          <a:stretch/>
        </p:blipFill>
        <p:spPr>
          <a:xfrm>
            <a:off x="865080" y="1881360"/>
            <a:ext cx="835812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 код здравих и код дијабетичара конц. глукозе брзо расте по конзумирању (30-60м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здравих се брзо враћа на првобитн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ед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дијабетичара веома споро јер се 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довољно инсулина па је врем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ња на нормално стање продуже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Дијагностички критеријуми СЗО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а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за дијабетес и стања хипер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400" y="20239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бете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≥ 7.0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глукоза у плазми у 120 мин. 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OGTT-a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≥ 11.1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нтолеранција на глукозу(IGT; impaired glucose tolera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i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7.0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лазма глукоза 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0 мин</a:t>
            </a:r>
            <a:r>
              <a:rPr b="0" i="1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OGTT-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≥ 7.8&lt;11.1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Дијагностички критеријуми СЗО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а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за дијабетес и стања хипергликемиј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Оштећена гликемија наште (IFG; impaired fasting glucos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емија наште у плазми  6.1 до 6.9 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у плазми 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20 мин ОГТТ-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&lt;7.8 mmol/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668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1760" y="159552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нижена концентрација глукоз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ј. концентрација глукозе нижа од 3.0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ела хипогликем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ипогликем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шт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постпрандијал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хипогликемиј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погликемија нашт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е након дужег гладовањ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манифестује се симптомима који се испољав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ћу или рано ују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0796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69000"/>
          </a:bodyPr>
          <a:p>
            <a:pPr marL="262800" indent="-262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погликемија наш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снови  ове врсте хипо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ерсекрециј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тензивно вежбање, тешка обољ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е и непанкреасни тум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стпрандијал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таје неколико часова након уношењ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брока и може бити  изазвана применом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а, лекова (инсулина), глукоз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2800" indent="-262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фруктоз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 гала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br>
              <a:rPr sz="32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3760" y="1095480"/>
            <a:ext cx="108662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жање сталне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ажно з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функционисањ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читаво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организ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ад орга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sr-RS" sz="2800" spc="-1" strike="noStrike">
                <a:solidFill>
                  <a:srgbClr val="ffff00"/>
                </a:solidFill>
                <a:latin typeface="Arial"/>
                <a:ea typeface="Arial"/>
              </a:rPr>
              <a:t>(мозак, бубрези, еритроцит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симо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мирниц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огати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скроб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ахарид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малтозом, лактозом и </a:t>
            </a:r>
            <a:r>
              <a:rPr b="0" i="1" lang="sr-RS" sz="2400" spc="-1" strike="noStrike">
                <a:solidFill>
                  <a:srgbClr val="ffffff"/>
                </a:solidFill>
                <a:latin typeface="Arial"/>
                <a:ea typeface="Arial"/>
              </a:rPr>
              <a:t>сахароз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цији гликемије  учествуј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исхрана, јетра и хорм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импто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3760" y="166680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Arial"/>
                <a:ea typeface="Arial"/>
              </a:rPr>
              <a:t>Адреналин је одговоран за класичне симптоме хипогликем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sr-RS" sz="36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рхт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зној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мучн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тахикард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вртогл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гла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нелагодност у стома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00ff00"/>
                </a:solidFill>
                <a:latin typeface="Arial"/>
                <a:ea typeface="Arial"/>
              </a:rPr>
              <a:t>Ови симптоми срећу се и у хипертиреози, феохромоцит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00ff00"/>
                </a:solidFill>
                <a:latin typeface="Arial"/>
                <a:ea typeface="Arial"/>
              </a:rPr>
              <a:t>и код анксиоз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Неки од могућих узрока</a:t>
            </a:r>
            <a:r>
              <a:rPr b="1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хипогликемиј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5040" y="159552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уготрајно гладов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екови (пропранолол, орал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ци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 (инхибира глуконеогенез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озирањ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тешка обољења јетре,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 метаболички поремећај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глукокортикои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панкреасни тумори који појачано трош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 код новорођенчади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7600" y="1778040"/>
            <a:ext cx="100011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 код новорођенчади и де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чешћа је у односу на одрасле особе, чак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 краткотрајном гладова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онатална хипогликемија дефинише 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 основу л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лаза гликемиј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иже од 1,6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код донесе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оворођенчади, односно ниже од 1,1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превремено рођене де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 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 деце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36680" y="18813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лаз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иска тел.маса на рође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токсемија код мај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спираторни “дистрес” синдр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</a:t>
            </a:r>
            <a:br>
              <a:rPr sz="3600"/>
            </a:b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36680" y="20955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ј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ефект у стварању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икоген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галактоз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следна неподношљивост фру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ендогени хиперинсулиниз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1760" y="523800"/>
            <a:ext cx="10160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одређивање 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концентрације инсули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одређивање концентрације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део инактивног облика инсулина  заједно са инсулином излучу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 у једнаким количин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значајан је показатељ концентрације ов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58 година јавља се лекару због наглог губитка телесне тежине, осећаја опште слабости и малаксалости који траје данима уназад , брзог замарања као и интензивног осећаја  жеђ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није је патио од гојазности, повремено конзумира алкохол, пушач је 30 година уназад, и има седентарни начин живо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јективним прегледом лекар је установио да је пацијент видно дехидриран и да има исушену кож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5040" y="2166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11,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36 mmol/L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(137-14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5,8 mmol/L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5-5.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моларност 385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Osm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(285-29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+ глукоза у урину на основу урин тест тра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320" y="309600"/>
            <a:ext cx="94294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На коју болест најпре посумњамо код лабораторијског налаза хипергликемије и гликозур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 Који облик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-a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је присутан код нашег пацијента 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. Које би још лабораторијске параметре могли да затражимо у циљу прецизнијег постављања дијагнозе и увођења терап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4. Како се изводи ОГТТ и како тумачимо добијене резулта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5. Како се лечи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војка старости 21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одину доводе код лекара због изненадне дрхтавице,лупања срца, презнојавања, мучнине, вртоглави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осећаја нелагодности у стомаку. Због бављења манекенством дуже време је на ригорозном дијететском режиму исхране, са смањеним  уносом угљених хидрата, а такође је приликом изласка у град попила и неколико алкохолних пић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4" descr="D:\OSS NOVI PROGRAM\SLIKE\3. faze glikemije.jpg"/>
          <p:cNvPicPr/>
          <p:nvPr/>
        </p:nvPicPr>
        <p:blipFill>
          <a:blip r:embed="rId1"/>
          <a:stretch/>
        </p:blipFill>
        <p:spPr>
          <a:xfrm>
            <a:off x="507960" y="1523880"/>
            <a:ext cx="91440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34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9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реа           3.6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(3.0-8.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реатинин  71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(49-1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               69U/L                                (0-17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MB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9.0U/L                             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2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SH             2.07uIU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/mL                       (0.38-5.3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FT</a:t>
            </a:r>
            <a:r>
              <a:rPr b="0" lang="sr-Latn-R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                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10.74pmol/L                      (7.46-21.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340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 </a:t>
            </a:r>
            <a:r>
              <a:rPr b="0" i="1" lang="sr-Latn-RS" sz="3600" spc="-1" strike="noStrike">
                <a:solidFill>
                  <a:srgbClr val="00ff00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3668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су могући узроци хипогликемије к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шег пацијенткињ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. Који су остали узроци 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. Код којих болести се такође срећу о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4. Који лабораторијски параметр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одређују у пракси у испитивањ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Регулација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7960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тању ситости стимулисани су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ли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 стању гладовања стимулисани су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оли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не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етогене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оли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а јетре у р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гулациј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и  се одиграва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ључни процеси одговорни за мет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а има способност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депоно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е и ослобађања глукозе у крвот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азградње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ња глукозе из фруктозе/галак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68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лога хормона у р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егулациј</a:t>
            </a:r>
            <a:r>
              <a:rPr b="0" i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2120" y="19526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мањује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(глукагон, кортизол, адреналин и хорм. раста)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већавају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C KG Lab</cp:lastModifiedBy>
  <dcterms:modified xsi:type="dcterms:W3CDTF">2020-10-01T08:01:33Z</dcterms:modified>
  <cp:revision>202</cp:revision>
  <dc:subject/>
  <dc:title>PowerPoint Presentation</dc:title>
</cp:coreProperties>
</file>